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F58-8395-44AE-A769-30F56584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3C0-E2CF-4CAD-B02E-C1449DA0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23CB-A387-4C92-894B-17E03F07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715D-3E75-4CF2-BF89-1BDC5327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230A-BC89-4A0A-89C7-F818DE21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4897-1EC5-44F7-8549-C9B2D463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893-2D6F-43D2-A3E8-6ADC2FAE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393-1BC3-4BE3-A88D-62A11596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CDDE-D0E2-4C34-A0E0-3592FF2B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D83-B613-4BFD-83E0-8C41FF1C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D20A-F924-4585-A3C0-139AEFEC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0A5E-BE3F-49E9-9DC5-29B80398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CE60-A7CF-48E1-95EF-2701531C7E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900igr.net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228600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3886200"/>
            <a:ext cx="3505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–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торая по яркости после Венеры планета Солнечной системы.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если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неру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ож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идеть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льк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утром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чером,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ногд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сверкает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сю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327636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Юпитер — пятая планета Солнечной системы по расстоянию до Солн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7920" y="4800600"/>
            <a:ext cx="1828800" cy="174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90720" y="2743200"/>
            <a:ext cx="2076480" cy="3352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19720" y="33526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з-за медленного, величественного перемещения этой планеты древние греки дали ей имя своего верховного бога Зевс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;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в римском пантеоне ему соответствовал Юпи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124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Дважды Юпитер сыграл важную роль в истории астрономии. Он стал первой планетой, у которой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ыли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открыты спутники. В 1610 г. Галилей, направив т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лескоп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на Юпитер, заметил рядом с планетой четыре звёздочки, не видимые простым гл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2471040"/>
            <a:ext cx="266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ыстрое и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хорошо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мет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ещение галилеевых спутников Юпитера – Ио, Европы, Ганимеда и Каллисто – делает их удобными “небесными часами”, и моряки долгое время пользовались ими, чтобы определять положение корабля в открытом м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3961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191120" y="4343400"/>
            <a:ext cx="1828800" cy="1773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36800" y="617688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743200" y="21337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48720" y="39625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Ган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0720" y="4572000"/>
            <a:ext cx="1904760" cy="1749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09680" y="6324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Калли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320" y="4819680"/>
            <a:ext cx="8991360" cy="2038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2438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Юпитер - это планета – гигант которая содержит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себе более 2/3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ей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нашей планетной системы. Масса Юпитера равна 318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емным. Его объем в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1300 раз больше, чем у Земли. Средняя плотность Юпитер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330 кг/м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^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, что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сравнимо с плотностью воды и в четыре раза меньше, чем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лотность Земли.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Видимая поверхность планеты в 120 раз превосходит площадь Земли. Юпитер представляет собой гигантский шар из водорода, практически его химический состав совпадает с солнечным. А вот температура на Юпитере ужасающе низкая:-140 С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04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Юпитер быстро вращается (период вращения 9 ч. 55 мин. 29 с.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3657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10080" y="3886560"/>
            <a:ext cx="358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з-за действия центробежных сил планета заметно расплющилась, и её полярный радиус стал на 4400 км меньше экваториального, равного 71400 км. Магнитное поле Юпитера в 12 раз сильнее зем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410080" y="4495680"/>
            <a:ext cx="3353040" cy="1967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2496600"/>
            <a:ext cx="4648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питер преподносит много сюрпризов: он генерирует мощные полярные сияния, сильные радиошумы, возле него межпланетные аппараты наблюдают пылевые бури – потоки мелких твердых частиц, выброшенных в  результате электромагнитных процессов в магнитосфере Юпитера. Мелкие частицы, которые получают электрический заряд  при облучении солнечным ветром, обладают очень интересной динамикой: являясь промежуточным случаем между макро и микротелами, они примерно одинаково реагируют и на гравитационные и на электромагнит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252520"/>
            <a:ext cx="48006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Именно из таких мелких каменных частиц, в основном состоит кольцо Юпитера, открытое в марте 1979 года. Его главная часть имеет радиус 123-129 тыс. км. Это плоское кольцо около 30км толщиной и очень разреженное – оно отражает лишь несколько тысячных долей процента падающего света. Более слабые пылевые структуры тянутся от главного кольца к поверхности Юпитера и образуют над кольцом толстое гало, простирающееся до ближайших спутников. Увидеть кольцо Юпитера с Земли практически невозможно: оно очень тонкое и постоянно повернуто к наблюдателю ребром из-за малого  наклона оси вращения Юпитера к плоскости его орб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1875 -0.55 E">
                                      <p:cBhvr>
                                        <p:cTn id="187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1000" fill="hold"/>
                                        <p:tgtEl>
                                          <p:spTgt spid="68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-108000"/>
            <a:ext cx="358128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самый близкий к Юпитеру галилеев спутник, он удален от центр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ланеты на 422 тыс. км, т. е. чуть дальше, чем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а от Земл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ращения Ио горазд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короч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ного месяца 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авля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сего 42,5 ч. Для набл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дателя в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лескоп эт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мы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поседлив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утник: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актически кажд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день И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дна на новом месте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ебега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 одной стороны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Юпитера н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руг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 массе и радиусу (1815км) Ио похожа на Луну. Самая сенсационная особенность Ио заключается в том, что она вулканически активна! Основной выбрасываемый  газ – диоксид серы, замерзающий потом на поверхности в виде твердого белого вещества. Доминирующим оранжевым цветом спутник обязан соединениям серы. Вулканически активные области Ио нагреты до 300</a:t>
            </a:r>
            <a:r>
              <a:rPr b="0" lang="ru-RU" sz="16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17916 1.11111E-006 E">
                                      <p:cBhvr>
                                        <p:cTn id="21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95840"/>
            <a:ext cx="35053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Ганимед является крупнейшим спутником планет в Солнечной системе, его радиус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вен  2631 км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отность мал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 сравнению с Ио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и Европой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сего 1930кг/м3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да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енность от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Юпитера составляет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1,07 млн.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м. Всю поверхность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анимеда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жно разделить на дв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руппы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ервая, занимающая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60%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территории, представ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яет собой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транные полосы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льд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рожден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активными геологическими процессами 3,5 млрд. лет назад; вторая, занимающая остальные 40%, представляет собой древнюю мощную ледяную кору, покрытую многочисленными метеоритными кратерами, нужно также отметить, что эта кора было частична разломлена и обновлена теми же процессами, что и упомянутые вы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17880"/>
            <a:ext cx="35812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второй по величине спутник в системе Юпитера, его радиус 2400км. Сред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алилеевых спутн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ов Каллист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ый дальний: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ояние о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Юпитера 1,88 млн. к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ращения составляет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16,7 суток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лот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-ледяно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то мала –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830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г/м3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ерх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то д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ела насыщен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ете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оритным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ратерам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м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ый цвет Каллисто – результат силикатных и других примесей. Каллисто – самое кратерированное тело Солнечной системы из всех известных. Огромной силы удар метеорита вызвал образование гигантской структуры, окружённой кольцевыми волнами , - Вальхаллы. В центре её находится кратер диаметром 350 км , а в радиусе 2000 км от него концентрическими кругами располагаются горные хреб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280" y="2286000"/>
            <a:ext cx="45720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572000" cy="4433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638680" y="545400"/>
            <a:ext cx="35053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вропа имеет радиус чуть  меньше, чем у Ио – 1569км. Из гал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евых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ут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иков у Европы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ая светлая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рхность с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явными признакам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одяног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ьда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еству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положение о то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что п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дяной корко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ству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одный океан, а под ним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твердо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е ядро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лотность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Европы очен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ысока – 3500кг/м3. Этот спутник удален от Юпитера на 67100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Геологическая история Европы не имеет ничего общего с историей соседних спутников. Европа одно из самых гладких тел в солнечной системе: на ней нет возвышенностей более ста метров высотой. Вся ледяная поверхность спутника покрыта сетью полос огромной протяжен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76720" y="45720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11111E-006 L 0.1625 0.27778 E">
                                      <p:cBhvr>
                                        <p:cTn id="28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23T12:06:13Z</dcterms:modified>
  <cp:revision>16</cp:revision>
  <dc:subject/>
  <dc:title>Спутники Юпи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04000000000001024140</vt:lpwstr>
  </property>
  <property fmtid="{D5CDD505-2E9C-101B-9397-08002B2CF9AE}" pid="3" name="Version">
    <vt:r8>1</vt:r8>
  </property>
</Properties>
</file>